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6EB8-F259-4C73-B3B7-CCE7037E7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EC2F-4BC2-4ED7-9166-CD877FA0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BB85-57C4-4089-A854-9B0EB5A1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D607-8F17-40BF-B578-F4137C12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4F70-71F6-46DE-9984-7A5788C4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2AAD-A528-441B-B4B9-4C81D66E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5964-F392-4615-B719-CC178B20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FC47-115A-4A73-BABD-4CC60CF8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D7F2-AAA5-4BB7-ABC3-A3AACC02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680F-1B03-413F-8134-043E802E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1CC3-4E43-4B4E-BE70-7FE0553E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8EE1-343C-4850-BAF5-25229E12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E2EB-60BC-4DF3-AD74-E5D04D3E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12F8-F733-42FE-B4C8-FF4DFE0C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086D-E354-4375-AECE-AF37A9E2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4533-887E-40A7-AC49-C79E1395D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BA37-1C00-49F2-92D8-22A3B57ED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2720-3D59-4F48-8873-82E04DE4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5A01-57F6-426B-B2EC-D4922D80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39E6-38D7-4269-BAB7-7E67FB61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F1CD-CAC6-478D-8985-36DFCBD5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AE5D-6443-4EA9-BA66-B13824BE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8CD5-970A-4409-B6A5-A3377A63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2790-88E0-4FB3-95CE-CAFE6DB2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B983-9F23-4B94-B53A-581F294C0F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F07A-2BA8-4CD6-8403-2A0ED48C03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ffff"/>
                </a:solidFill>
                <a:latin typeface="Tahoma"/>
              </a:rPr>
              <a:t>Царь Петр указывает места </a:t>
            </a:r>
            <a:br>
              <a:rPr sz="3200"/>
            </a:br>
            <a:r>
              <a:rPr b="1" i="1" lang="en-US" sz="3200" spc="-1" strike="noStrike">
                <a:solidFill>
                  <a:srgbClr val="e5ffff"/>
                </a:solidFill>
                <a:latin typeface="Tahoma"/>
              </a:rPr>
              <a:t>для первых построек Петербурга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859280" y="1981080"/>
            <a:ext cx="3827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родой здесь нам суждено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Европу прорубить окно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огою твердой стать при море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юда по новым им волнам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е флаги в гости будут к нам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запируем на простор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ушкин А.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1-5" descr="Царь Петр указывает места для первых построек Петербурга"/>
          <p:cNvPicPr/>
          <p:nvPr/>
        </p:nvPicPr>
        <p:blipFill>
          <a:blip r:embed="rId2"/>
          <a:stretch/>
        </p:blipFill>
        <p:spPr>
          <a:xfrm>
            <a:off x="324000" y="1413000"/>
            <a:ext cx="4319280" cy="51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СТРОИТЕЛЬСТВО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САНКТ-ПЕТЕРБУРГ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00 лет назад здесь были дремучие леса и непроходимые боло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е изменилось в начал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VI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ека , когда царь Петр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решил построить здесь горо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95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45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ЦЕЛЬ СТРОИТЕЛЬСТВА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У РОССИИ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Т ВЫХОДА К МОР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Т ФЛО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РУДНО ТОРГОВАТЬ С ДРУГИМИ СТРАН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АЛО ЗНАКОМА С НАУЧНЫМИ ОТКРЫТИЯМИ И ИЗОБРЕТЕНИ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75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25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75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25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КАКОЙ БУДЕТ НОВАЯ СТОЛИЦА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роительство Санкт-Петербурга было делом весьма непросты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сква в начале XVIII в. оставалась еще деревянным город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овая столица должна была быть каменн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ля того, чтобы Петербург мог застроиться, на ряд лет прекратилось каменное строительство во всем государстве — мера небывала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600"/>
                            </p:stCondLst>
                            <p:childTnLst>
                              <p:par>
                                <p:cTn id="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600"/>
                            </p:stCondLst>
                            <p:childTnLst>
                              <p:par>
                                <p:cTn id="1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600"/>
                            </p:stCondLst>
                            <p:childTnLst>
                              <p:par>
                                <p:cTn id="1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600"/>
                            </p:stCondLst>
                            <p:childTnLst>
                              <p:par>
                                <p:cTn id="1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Закладка крепости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Санкт-Петербург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1-4" descr="Закладка крепости Санкт-Петербурга"/>
          <p:cNvPicPr/>
          <p:nvPr/>
        </p:nvPicPr>
        <p:blipFill>
          <a:blip r:embed="rId2"/>
          <a:stretch/>
        </p:blipFill>
        <p:spPr>
          <a:xfrm>
            <a:off x="468360" y="1773360"/>
            <a:ext cx="8207280" cy="50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7T09:06:41Z</dcterms:created>
  <dc:creator>Администратор</dc:creator>
  <dc:description/>
  <dc:language>en-US</dc:language>
  <cp:lastModifiedBy>Марина</cp:lastModifiedBy>
  <dcterms:modified xsi:type="dcterms:W3CDTF">2007-12-17T17:03:44Z</dcterms:modified>
  <cp:revision>3</cp:revision>
  <dc:subject/>
  <dc:title>Царь Петр указывает места  для первых построек Петербурга </dc:title>
</cp:coreProperties>
</file>